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BDDA-2098-4081-80EF-D7E5328E6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CB59-EF3E-46C9-8E07-B49D44ED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4175-D5F8-4FB9-930A-3085B924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9118-9E45-495A-A4A3-1DED560E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84FA-C49E-4ABB-BB1D-5A7AC92E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B3AA-80BC-4A73-9AA3-3CFECF950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C8AE-D717-4130-8459-E1494669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BC3-4992-400C-A8C6-A5BCA536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824D-88E4-4D91-B6B4-99DE0BCF3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321F-83C1-4B9E-A874-D2BE1D516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076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908520"/>
            <a:ext cx="8076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B228-976A-49AD-A631-F7566E49B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90852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90852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3A0B-2590-4060-9F7B-BD6C1766D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9984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9984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90852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90852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90852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9C5A-AAAF-4C74-9C83-003490B302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097B-B588-4886-B8B6-23C04D1FC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A625-EF27-4988-8A55-B4A9214D0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315A-C78A-4B2A-A2C1-959460C20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C0D2-0FEF-4250-9465-4B2FD18B3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F7C6-0F76-4425-B53C-79FB20B1E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90852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A5D9-CEF1-4212-BEBE-5AED0B26E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90852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5DBD-09FC-4D24-A13B-F01010765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908520"/>
            <a:ext cx="8076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9155-31F4-42F3-9AA3-50CCBD1FE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700C7439-C782-4860-AD1D-7DC54F6878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C5B50189-17F5-45C8-8495-48413ADC2E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amiliar with the class of French verbs whose infinitives end 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infinitives of a second class of French verbs end 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ome of the most commonly used verbs in this class are ir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DEBF842C-69F5-4A7F-A43F-5EEFA20A39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9_02_p156a"/>
          <p:cNvPicPr/>
          <p:nvPr/>
        </p:nvPicPr>
        <p:blipFill>
          <a:blip r:embed="rId1"/>
          <a:stretch/>
        </p:blipFill>
        <p:spPr>
          <a:xfrm>
            <a:off x="1066680" y="3200400"/>
            <a:ext cx="6953400" cy="200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09_02_p156b"/>
          <p:cNvPicPr/>
          <p:nvPr/>
        </p:nvPicPr>
        <p:blipFill>
          <a:blip r:embed="rId2"/>
          <a:stretch/>
        </p:blipFill>
        <p:spPr>
          <a:xfrm>
            <a:off x="1447920" y="5105520"/>
            <a:ext cx="6237000" cy="1344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609480" y="16002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83c8"/>
                </a:solidFill>
                <a:latin typeface="Arial"/>
              </a:rPr>
              <a:t>Sort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express leaving a room or a building.   It also expresses the idea of going out, as with friends or on a date. The preposition </a:t>
            </a:r>
            <a:r>
              <a:rPr b="0" lang="en-US" sz="2400" spc="-1" strike="noStrike">
                <a:solidFill>
                  <a:srgbClr val="2483c8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after </a:t>
            </a:r>
            <a:r>
              <a:rPr b="0" lang="en-US" sz="2400" spc="-1" strike="noStrike">
                <a:solidFill>
                  <a:srgbClr val="2483c8"/>
                </a:solidFill>
                <a:latin typeface="Arial"/>
              </a:rPr>
              <a:t>sor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place someone is leaving is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14F6229A-555E-4D22-B75D-EE8F7E5581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9_02_p156c"/>
          <p:cNvPicPr/>
          <p:nvPr/>
        </p:nvPicPr>
        <p:blipFill>
          <a:blip r:embed="rId1"/>
          <a:stretch/>
        </p:blipFill>
        <p:spPr>
          <a:xfrm>
            <a:off x="838080" y="1828800"/>
            <a:ext cx="72946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arti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generally used to say someone is leaving a large place such as a city, country, or region. Often, a form of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arti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accompanied by the preposition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ou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nd a destination name to say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leave for (a place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09_02_p156d"/>
          <p:cNvPicPr/>
          <p:nvPr/>
        </p:nvPicPr>
        <p:blipFill>
          <a:blip r:embed="rId1"/>
          <a:stretch/>
        </p:blipFill>
        <p:spPr>
          <a:xfrm>
            <a:off x="1371600" y="3124080"/>
            <a:ext cx="6400800" cy="177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09_02_p156f"/>
          <p:cNvPicPr/>
          <p:nvPr/>
        </p:nvPicPr>
        <p:blipFill>
          <a:blip r:embed="rId2"/>
          <a:stretch/>
        </p:blipFill>
        <p:spPr>
          <a:xfrm>
            <a:off x="1709640" y="5638680"/>
            <a:ext cx="5722920" cy="11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9_02_p156e"/>
          <p:cNvPicPr/>
          <p:nvPr/>
        </p:nvPicPr>
        <p:blipFill>
          <a:blip r:embed="rId3"/>
          <a:stretch/>
        </p:blipFill>
        <p:spPr>
          <a:xfrm>
            <a:off x="1523880" y="4876920"/>
            <a:ext cx="669924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25E70E9D-3548-49A4-8E62-4751640FF2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9_02_p157a"/>
          <p:cNvPicPr/>
          <p:nvPr/>
        </p:nvPicPr>
        <p:blipFill>
          <a:blip r:embed="rId1"/>
          <a:stretch/>
        </p:blipFill>
        <p:spPr>
          <a:xfrm>
            <a:off x="990720" y="1752480"/>
            <a:ext cx="739116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38815A24-9B28-4636-9504-4CAAA9DED1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09_02_p157b"/>
          <p:cNvPicPr/>
          <p:nvPr/>
        </p:nvPicPr>
        <p:blipFill>
          <a:blip r:embed="rId1"/>
          <a:stretch/>
        </p:blipFill>
        <p:spPr>
          <a:xfrm>
            <a:off x="1219320" y="1600200"/>
            <a:ext cx="7086600" cy="297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_02_p157c"/>
          <p:cNvPicPr/>
          <p:nvPr/>
        </p:nvPicPr>
        <p:blipFill>
          <a:blip r:embed="rId2"/>
          <a:stretch/>
        </p:blipFill>
        <p:spPr>
          <a:xfrm>
            <a:off x="1371600" y="4724280"/>
            <a:ext cx="678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43DB1834-EAA2-40D4-9BE9-14C4A2A623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ent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f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sm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09_02_p157e"/>
          <p:cNvPicPr/>
          <p:nvPr/>
        </p:nvPicPr>
        <p:blipFill>
          <a:blip r:embed="rId1"/>
          <a:stretch/>
        </p:blipFill>
        <p:spPr>
          <a:xfrm>
            <a:off x="2971800" y="4114800"/>
            <a:ext cx="3097080" cy="214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09_02_p157d"/>
          <p:cNvPicPr/>
          <p:nvPr/>
        </p:nvPicPr>
        <p:blipFill>
          <a:blip r:embed="rId2"/>
          <a:stretch/>
        </p:blipFill>
        <p:spPr>
          <a:xfrm>
            <a:off x="1752480" y="2209680"/>
            <a:ext cx="6059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F8DAF2EA-B8E5-4E4E-916D-4B49EFF7EB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essayez"/>
          <p:cNvPicPr/>
          <p:nvPr/>
        </p:nvPicPr>
        <p:blipFill>
          <a:blip r:embed="rId1"/>
          <a:stretch/>
        </p:blipFill>
        <p:spPr>
          <a:xfrm>
            <a:off x="547560" y="1371600"/>
            <a:ext cx="804888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762120" y="2590920"/>
          <a:ext cx="7848360" cy="35971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64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__________ (sortir) vers neuf heur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__________ (servir) des boissons gazeuses aux invité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__ (partir) quand pour le Canada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ne __________ (dormir) pas en cour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__________ (courir) pour attraper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t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le bu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anges des oignons? Ça __________ (sentir) mauvai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___ (sortir) avec des copains ce soi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__________ (partir) pour Dijon ce week-en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44"/>
          <p:cNvSpPr/>
          <p:nvPr/>
        </p:nvSpPr>
        <p:spPr>
          <a:xfrm>
            <a:off x="838080" y="1600200"/>
            <a:ext cx="771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étez les phrases avec la forme correcte du verb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7"/>
          <p:cNvSpPr/>
          <p:nvPr/>
        </p:nvSpPr>
        <p:spPr>
          <a:xfrm>
            <a:off x="2019240" y="2581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83c8"/>
                </a:solidFill>
                <a:latin typeface="Comic Sans MS"/>
              </a:rPr>
              <a:t>sor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marilaur</cp:lastModifiedBy>
  <dcterms:modified xsi:type="dcterms:W3CDTF">2013-03-17T13:04:40Z</dcterms:modified>
  <cp:revision>44</cp:revision>
  <dc:subject>Structures 9.2</dc:subject>
  <dc:title>PROMENADES</dc:title>
</cp:coreProperties>
</file>